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6C8A-5EB9-497A-9414-07F3242EC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4C45-06AA-4F20-9335-6EF50D420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09FF-D4E3-4070-BC15-11B2D9F57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2F19-49B5-499D-AFC2-7E247FA13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C3323-2DCF-4679-9AE7-34EA87FFA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5B228-F5C9-4C07-A686-C68BFD256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25187-A64D-4976-B47B-E878C55BC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AC332-4744-4B82-9337-450CC8EB2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FA446-0B8A-4BCE-BF7D-DC485F02A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288EE-B739-4B06-B9AB-71109FF32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7AC02-B15E-4803-BE96-9521728B3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4109-8ED9-4DFB-A484-804D24527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BA459-705C-4FD3-BDB5-2A957190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1865B-4862-4125-8C3F-6AAC1CE87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A3858-DA05-4612-B47B-4937DB7AA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5B47D-4B98-42B7-B058-73521DD58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67979-BC7B-464F-A795-7DD3E23F1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A05E-FBA6-4CDA-8506-C4094119D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3046-FD42-44D2-8D18-94695CF76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F260-909B-424B-B8D9-C9A8D92C7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C13E-132F-4C74-AF17-F5BF0AD4F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6598-678C-4E7F-91EE-6B17C28D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1413-2470-4626-AE36-7BDCAD30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43DA-D2C4-4E51-9836-8A8EC07C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7280" cy="60148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. 11-02 K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A3240-69FE-4C24-A26E-D653EA1ED25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rc 3"/>
          <p:cNvSpPr/>
          <p:nvPr/>
        </p:nvSpPr>
        <p:spPr>
          <a:xfrm>
            <a:off x="0" y="843120"/>
            <a:ext cx="2897280" cy="60148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. 11-02 K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C2CF6-31B3-4D70-9B23-91C032F6A1A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467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ommunity, Group and Society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6" name="Footer Placeholder 3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. 11-02 K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Slide Number Placehold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1DDF6-E13A-405A-AFD5-71DBACCC4D8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Social Group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7720" y="1295280"/>
            <a:ext cx="807732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rrill: “Two or more persons are in communication over an appreciable period of time and who act in accordance with common function or purpose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ments of Gro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There are at least two pers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There are reciprocal relationship among the memb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 There is common purpose, among the memb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Footer Placeholder 3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. 11-02 K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Slide Number Placehold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C94F4-414A-406E-8E27-298282E67A1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240" y="76176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ociety:</a:t>
            </a:r>
            <a:br>
              <a:rPr sz="4800"/>
            </a:br>
            <a:r>
              <a:rPr b="0" lang="en-US" sz="3600" spc="-1" strike="noStrike">
                <a:solidFill>
                  <a:srgbClr val="ffb3b3"/>
                </a:solidFill>
                <a:latin typeface="Times New Roman"/>
                <a:ea typeface="Times New Roman"/>
              </a:rPr>
              <a:t>According to Linten, A society is “any group of people who have lived and worked together long enough to get themselves organized and to think of themselves as a social unit with well-defined limits.” A gathering of people in a kabaddi match, volleyball contest, or in a public meeting is an aggregate and not a society.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2" name="Footer Placeholder 2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. 11-02 K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9F5BE-B302-45FB-87E9-3395A008F64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360" y="0"/>
            <a:ext cx="79246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Nature and characteristics of Society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837720" y="129528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Largest group of peop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Composed of Social group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Social institutions are the main orga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Rural-Urban compos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Presence of cultur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Fulfillment of human need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.Organized in natur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Limited geographical boundar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Mechanism of social norms and social sanc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Socializations of individual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Footer Placeholder 3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. 11-02 K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Slide Number Placehold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475B0-A6FD-476D-B43C-AA36A394985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lements of Society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9140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A big aggregate of peop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Living together since very long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Having a sense of belonging to one anot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More or less a permanent associ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Having a common cult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Footer Placeholder 3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. 11-02 K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Slide Number Placehold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98965-1822-4F58-8B74-20565CE4864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. 11-02 K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2EB60-5FD0-4D64-88D7-B25209DA765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44640" y="304920"/>
            <a:ext cx="6399360" cy="126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Communities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38080" y="533160"/>
            <a:ext cx="79250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8" descr="C:\Program Files\Common Files\Microsoft Shared\Clipart\cagcat50\bl00381_.wmf"/>
          <p:cNvPicPr/>
          <p:nvPr/>
        </p:nvPicPr>
        <p:blipFill>
          <a:blip r:embed="rId1"/>
          <a:stretch/>
        </p:blipFill>
        <p:spPr>
          <a:xfrm>
            <a:off x="457200" y="2362320"/>
            <a:ext cx="4603680" cy="2574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C:\Program Files\Common Files\Microsoft Shared\Clipart\cagcat50\bd05158_.wmf"/>
          <p:cNvPicPr/>
          <p:nvPr/>
        </p:nvPicPr>
        <p:blipFill>
          <a:blip r:embed="rId2"/>
          <a:stretch/>
        </p:blipFill>
        <p:spPr>
          <a:xfrm>
            <a:off x="6629400" y="2514600"/>
            <a:ext cx="2108160" cy="2039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C:\Program Files\Common Files\Microsoft Shared\Clipart\cagcat50\pe01838_.wmf"/>
          <p:cNvPicPr/>
          <p:nvPr/>
        </p:nvPicPr>
        <p:blipFill>
          <a:blip r:embed="rId3"/>
          <a:stretch/>
        </p:blipFill>
        <p:spPr>
          <a:xfrm>
            <a:off x="3809880" y="2895480"/>
            <a:ext cx="3616560" cy="3468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1" descr="C:\Program Files\Common Files\Microsoft Shared\Clipart\cagcat50\en00349_.wmf"/>
          <p:cNvPicPr/>
          <p:nvPr/>
        </p:nvPicPr>
        <p:blipFill>
          <a:blip r:embed="rId4"/>
          <a:stretch/>
        </p:blipFill>
        <p:spPr>
          <a:xfrm>
            <a:off x="6985080" y="5638680"/>
            <a:ext cx="2158920" cy="12193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2" descr="C:\Program Files\Common Files\Microsoft Shared\Clipart\cagcat50\pe01659_.wmf"/>
          <p:cNvPicPr/>
          <p:nvPr/>
        </p:nvPicPr>
        <p:blipFill>
          <a:blip r:embed="rId5"/>
          <a:stretch/>
        </p:blipFill>
        <p:spPr>
          <a:xfrm>
            <a:off x="0" y="3389400"/>
            <a:ext cx="3902040" cy="3468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" descr="C:\Program Files\Common Files\Microsoft Shared\Clipart\cagcat50\pe01846_.wmf"/>
          <p:cNvPicPr/>
          <p:nvPr/>
        </p:nvPicPr>
        <p:blipFill>
          <a:blip r:embed="rId6"/>
          <a:stretch/>
        </p:blipFill>
        <p:spPr>
          <a:xfrm>
            <a:off x="0" y="0"/>
            <a:ext cx="2666880" cy="11714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4" descr="C:\Program Files\Common Files\Microsoft Shared\Clipart\cagcat50\bd06662_.wmf"/>
          <p:cNvPicPr/>
          <p:nvPr/>
        </p:nvPicPr>
        <p:blipFill>
          <a:blip r:embed="rId7"/>
          <a:stretch/>
        </p:blipFill>
        <p:spPr>
          <a:xfrm>
            <a:off x="7315200" y="152280"/>
            <a:ext cx="165888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. 11-02 K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58FBA-94E1-469C-8193-7D78E83115D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Rectangle 24"/>
          <p:cNvSpPr/>
          <p:nvPr/>
        </p:nvSpPr>
        <p:spPr>
          <a:xfrm>
            <a:off x="380880" y="304920"/>
            <a:ext cx="8763120" cy="61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6000" spc="-1" strike="noStrike">
                <a:solidFill>
                  <a:srgbClr val="ff9966"/>
                </a:solidFill>
                <a:latin typeface="Arial Rounded MT Bold"/>
              </a:rPr>
              <a:t>COMMUNITY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is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a place where people: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ctr">
              <a:lnSpc>
                <a:spcPct val="90000"/>
              </a:lnSpc>
              <a:spcBef>
                <a:spcPts val="3750"/>
              </a:spcBef>
              <a:buClr>
                <a:srgbClr val="99ccff"/>
              </a:buClr>
              <a:buSzPct val="60000"/>
              <a:buFont typeface="Web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9966"/>
                </a:solidFill>
                <a:latin typeface="Arial Rounded MT Bold"/>
              </a:rPr>
              <a:t>Work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750"/>
              </a:spcBef>
              <a:buClr>
                <a:srgbClr val="99ccff"/>
              </a:buClr>
              <a:buSzPct val="60000"/>
              <a:buFont typeface="Web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9966"/>
                </a:solidFill>
                <a:latin typeface="Arial Rounded MT Bold"/>
              </a:rPr>
              <a:t>Play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750"/>
              </a:spcBef>
              <a:buClr>
                <a:srgbClr val="99ccff"/>
              </a:buClr>
              <a:buSzPct val="60000"/>
              <a:buFont typeface="Web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9966"/>
                </a:solidFill>
                <a:latin typeface="Arial Rounded MT Bold"/>
              </a:rPr>
              <a:t>Live together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3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3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3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3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3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3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. 11-02 K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6E6EF-26F7-4E93-9A76-57DA6E4832F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66"/>
                </a:solidFill>
                <a:latin typeface="Arial Rounded MT Bold"/>
              </a:rPr>
              <a:t>Three types of communities are:</a:t>
            </a:r>
            <a:endParaRPr b="1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99ccff"/>
              </a:buClr>
              <a:buSzPct val="65000"/>
              <a:buFont typeface="Web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500" spc="-1" strike="noStrike">
                <a:solidFill>
                  <a:srgbClr val="ff9966"/>
                </a:solidFill>
                <a:latin typeface="Arial Rounded MT Bold"/>
              </a:rPr>
              <a:t>Urba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 a large community with many people and large buildings, a c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9" descr="C:\Program Files\Common Files\Microsoft Shared\Clipart\cagcat50\bl00381_.wmf"/>
          <p:cNvPicPr/>
          <p:nvPr/>
        </p:nvPicPr>
        <p:blipFill>
          <a:blip r:embed="rId1"/>
          <a:stretch/>
        </p:blipFill>
        <p:spPr>
          <a:xfrm>
            <a:off x="2438280" y="3276720"/>
            <a:ext cx="4604040" cy="257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. 11-02 K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5BC96-01B8-4C2F-BD1F-054F65D0035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66"/>
                </a:solidFill>
                <a:latin typeface="Arial Rounded MT Bold"/>
              </a:rPr>
              <a:t>Three types of communities are:</a:t>
            </a:r>
            <a:endParaRPr b="1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99ccff"/>
              </a:buClr>
              <a:buSzPct val="65000"/>
              <a:buFont typeface="Web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500" spc="-1" strike="noStrike">
                <a:solidFill>
                  <a:srgbClr val="ff9966"/>
                </a:solidFill>
                <a:latin typeface="Arial Rounded MT Bold"/>
              </a:rPr>
              <a:t>Urba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 a large community with many people and large buildings, a c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99ccff"/>
              </a:buClr>
              <a:buSzPct val="65000"/>
              <a:buFont typeface="Web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9966"/>
                </a:solidFill>
                <a:latin typeface="Arial Rounded MT Bold"/>
              </a:rPr>
              <a:t>Suburba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 a medium-sized community near a large city, houses are close together, you may see parks and mal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. 11-02 K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5904B-ECEC-466F-8E8C-C3DF2504E8E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66"/>
                </a:solidFill>
                <a:latin typeface="Arial Rounded MT Bold"/>
              </a:rPr>
              <a:t>Three types of communities are:</a:t>
            </a:r>
            <a:endParaRPr b="1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65000"/>
              <a:buFont typeface="Web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9966"/>
                </a:solidFill>
                <a:latin typeface="Arial Rounded MT Bold"/>
              </a:rPr>
              <a:t>Urba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a large community with many people and large buildings, a c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65000"/>
              <a:buFont typeface="Web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Arial Rounded MT Bold"/>
              </a:rPr>
              <a:t>Suburba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a medium-sized community near a large city, houses are close together, you may see parks and m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65000"/>
              <a:buFont typeface="Web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Arial Rounded MT Bold"/>
              </a:rPr>
              <a:t>Rur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a community where houses are far apart, there are a smaller number of people, and you may see farms and fore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. 11-02 K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8FC4F-B222-471E-82EB-F36ECC6FD58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66"/>
                </a:solidFill>
                <a:latin typeface="Arial Rounded MT Bold"/>
              </a:rPr>
              <a:t>We live in communities.</a:t>
            </a:r>
            <a:endParaRPr b="1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60000"/>
              <a:buFont typeface="Web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communities have places where people liv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60000"/>
              <a:buFont typeface="Web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mes are different in different communi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9966"/>
              </a:buClr>
              <a:buSzPct val="65000"/>
              <a:buFont typeface="Web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Urban communities may have high rise apartments and town hous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9966"/>
              </a:buClr>
              <a:buSzPct val="65000"/>
              <a:buFont typeface="Webdings" charset="2"/>
              <a:buChar char="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uburbs may have houses with lawns but with close neighbors.  There may also be apartment building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9966"/>
              </a:buClr>
              <a:buSzPct val="65000"/>
              <a:buFont typeface="Webding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ural areas may have houses that are farther apart, on large areas of land with trees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hat kind of community do you live in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. 11-02 K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AFD6B-C267-49AB-9097-2C8EBF5E26D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66"/>
                </a:solidFill>
                <a:latin typeface="Arial Rounded MT Bold"/>
              </a:rPr>
              <a:t>We work in communities.</a:t>
            </a:r>
            <a:endParaRPr b="1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60000"/>
              <a:buFont typeface="Web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communities have places to wor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60000"/>
              <a:buFont typeface="Web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erent communities have different job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9966"/>
              </a:buClr>
              <a:buSzPct val="65000"/>
              <a:buFont typeface="Web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rban communities may have office workers, store clerks, taxi driver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9966"/>
              </a:buClr>
              <a:buSzPct val="65000"/>
              <a:buFont typeface="Webdings" charset="2"/>
              <a:buChar char="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uburban communities may have factory workers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9966"/>
              </a:buClr>
              <a:buSzPct val="65000"/>
              <a:buFont typeface="Webding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ural communities may have farmer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n you add some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. 11-02 K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FAA4B-73CC-42D8-9AA8-DC752EF90F4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66"/>
                </a:solidFill>
                <a:latin typeface="Arial Rounded MT Bold"/>
              </a:rPr>
              <a:t>We play in communities.</a:t>
            </a:r>
            <a:endParaRPr b="1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60000"/>
              <a:buFont typeface="Web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communities have places to pl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60000"/>
              <a:buFont typeface="Web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erent communities have different places to pl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9966"/>
              </a:buClr>
              <a:buSzPct val="65000"/>
              <a:buFont typeface="Web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rban communities may have a large central park or an indoor gym.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9966"/>
              </a:buClr>
              <a:buSzPct val="65000"/>
              <a:buFont typeface="Webdings" charset="2"/>
              <a:buChar char="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uburban communities may have neighborhood parks with playgrounds and baseball team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9966"/>
              </a:buClr>
              <a:buSzPct val="65000"/>
              <a:buFont typeface="Webding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ural communities may have community parks and fields or county fair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ere do you play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kram</cp:lastModifiedBy>
  <dcterms:modified xsi:type="dcterms:W3CDTF">2020-03-30T07:44:24Z</dcterms:modified>
  <cp:revision>19</cp:revision>
  <dc:subject/>
  <dc:title>PowerPoint Presentation</dc:title>
</cp:coreProperties>
</file>